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20296"/>
        <c:axId val="94080840"/>
      </c:barChart>
      <c:catAx>
        <c:axId val="43920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80840"/>
        <c:crosses val="autoZero"/>
        <c:auto val="1"/>
        <c:lblAlgn val="ctr"/>
        <c:lblOffset val="100"/>
        <c:noMultiLvlLbl val="0"/>
      </c:catAx>
      <c:valAx>
        <c:axId val="94080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20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93E-FC83-4C74-8F32-5CF44F3D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18D7-3B45-4DD0-BE2D-30D950A9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69B1-97BA-4478-9C89-40C0DC85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0D1-BCA5-4EFC-BFEE-F4710CFF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CAE-C5A4-4CE7-B1BC-945CAD7D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AF1-7240-4C5D-9810-BDCDD471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16E-1B46-41D3-B3C7-8DF5ECB7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8AF-76FE-43AE-AD93-02A75E9E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DB1-0504-409A-8DAB-DC249006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D9D-A68F-4D2A-BFB6-5DF2EE8C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E6D-AFE6-48F2-8C92-6620CE93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A055-3806-481A-8C2D-003D84E4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DBBDE-8D0D-4FD7-9C8E-9D1DA7336E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