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98504"/>
        <c:axId val="69106244"/>
      </c:barChart>
      <c:catAx>
        <c:axId val="24698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06244"/>
        <c:crosses val="autoZero"/>
        <c:auto val="1"/>
        <c:lblAlgn val="ctr"/>
        <c:lblOffset val="100"/>
        <c:noMultiLvlLbl val="0"/>
      </c:catAx>
      <c:valAx>
        <c:axId val="69106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98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FB0-CA86-4881-B25E-2CC487BA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5C1-D7B0-45C7-9146-5F46F236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BE1-65C6-4DBE-8C35-2DC49DE7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44B-1D63-442F-91AF-8C2FD49E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0C2-4420-4809-9B7A-9B0F3113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F37-2D38-4C23-80D5-D6169F02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4D5-49DD-4013-B025-3F87C0B9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256-37F0-4AC8-BF0B-18C19E18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14E-D74C-47BA-BA70-4A27BD36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B1A-18B2-48C8-B3E0-DD9E7C8A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2DB-9FB1-4BE1-B8F3-B4811689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C17-C60F-4750-8C80-ADCBBEA0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02607-7790-4004-AAED-6B3E1A221D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