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719161C-11EF-45BA-83B7-D536D4273A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4A72E78-23E1-45B9-8955-FED333967E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F048120-6090-471B-B4D6-93D0647CF76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91DBB58-F4C9-44D8-A069-A30CFBEE9F5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235EAC2-2A7E-4393-93C7-51117DD40140}"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0853F12-1500-4BDB-A103-609385BDF0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11A9E5-A9EC-4BC4-9A64-12E998E1C4F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1CBF56-2B68-4658-BC40-86F9D75053B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82C120A-3B63-4231-8613-B739D110F55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A605CB1-300C-4288-888A-60580A2586A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1E41B95D-840A-4F11-A7FA-D5783BD5088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01D3AC-5C37-4A88-A106-A209E07978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69795D5-2605-44AD-A161-440FB5E597C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D92457-E1A7-4C4E-85B6-CE8B69C73B7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A4E0754-5B11-4BF8-840D-F1397D792BC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74DD65-D0A6-4005-A0A8-DD2898C5FF2E}"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E80577B-E8B4-4A71-8416-F1C518EAA9A8}"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F853DA-F1A3-4860-838D-F65B062D20E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AEC546-5A07-4B29-A14E-DF258FCE14D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2D511B-FF8B-4891-BD0F-E067848A579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5F23FA6-130B-4924-9F86-86E6C4FCE5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017DA5E-9781-46A5-BDB8-0C124B19F2B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5CC2811-3C61-443A-BF8D-5F7123A47D6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2272230-3BE9-4885-AA86-856DFA246D2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C91702-266F-41F0-9613-0627BBA092A4}"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9508FAE-0226-40AA-9C16-34BA8615777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F9BF2815-AC06-4B99-B5EA-FF23A3CFAA21}"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F5976F1-6B59-4984-9F4E-941BCD6A4B93}"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883319-050F-4C3D-B44C-D289F2F1A999}"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BF9D88-6F82-4BBF-A03D-B2F316795BC5}"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0EC04-88D4-4D38-B32F-E674A0F46966}"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F4425C-779A-4BAF-91CE-369F0FFB3456}"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3145BDA-0A2C-4EBA-97F5-D5288A96C38B}"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BC8E78-5209-47FB-A4D6-181F784A7C41}"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7A33D1-218C-4E08-AC10-2331296E96DC}"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32A0D5-BEE3-49F2-9351-C3BCEE8F2832}"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2FCAE2-A869-421C-B862-26BA40F893E3}"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EDF3E8-AEFC-465E-8F10-F11C2A73B443}"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F16F26-D39F-4D1C-8EC3-7C3521A37CE8}"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4345316-35A7-4DE6-AC72-EE7AD39137B0}"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38CA63-EB63-4911-9BEE-D11E68173FC8}"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A7070F-933D-4885-AE2B-F626C2F88506}"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4A2D6E-2BBA-4E41-9689-3A814379F157}"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BA20F8-3E98-40EF-90FD-BD94CE5318EC}"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4138E0-3205-4168-81B8-BBEF40A50231}"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826A4C-6A80-4C6B-B6BD-A081260E5702}"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B24944-B366-4E1F-AD72-9F7A6F793D77}"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141E6F-AE4F-4F10-84B7-D226F5FC6CEF}"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6E997-667B-4896-B075-67C81E9DC33A}"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B650BD-E022-4A92-8925-D0C878072B78}"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DE6CB4A-94C1-4419-AC1E-A3C8E5954BC7}"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A113F08-1F0E-418D-B8CD-0996B0424DF0}"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F06A2C-0364-4A1A-9DFF-D1156053E617}"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64560739-9B49-43D8-AA73-F0128CE62EDB}"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0E342F-4FF5-4A40-B9B4-E216B208654B}"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7411F-FF61-433B-B7FD-524E4173AFD9}"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A9E5E7-AB2A-4678-8EA9-AC10AC61DBE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2CF41E-C8C0-45A3-91AA-CF45948C4545}"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C3F249-77D2-4224-9C93-F88E6D27C26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27C4E6-DBEC-4782-AAA3-A13EF3189455}"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E251852-F1A9-4088-91B4-5628398BE7B8}"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0752A9-2E39-4E2A-9058-3B474F52E2EC}"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9B5F76-A6DA-4541-8B2E-D791623FB66E}"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779659-02DA-4DF9-A5FC-2ADDA363EBC5}"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0BEB4-E636-469E-9223-898D41912E74}"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9386FB-1CA5-4165-BC75-B771EAB444A4}"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99BC6B-D885-4512-A93C-B1D0147B6FE0}"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A10DEC-4AA7-4012-8446-487D5A841E7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B033F2-DE25-4BAC-96C5-1164FC2C7F71}"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295C15-B2B0-4E68-B8E2-81053646DC2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70BB5C-47F7-4599-B002-8598CF1ECF58}"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DC1C6B-74E7-439A-9690-674EFD3B3913}"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76D2E7-E932-4D61-A0F0-901BEBD1C6CE}"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27E84D1-D4CD-432F-BDE7-BE7D0F005915}"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D7B1B621-0863-417A-8019-C0D17E12B2A9}"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0E9E8D-A995-4F93-915D-C7EAB9221AFF}"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A712346-C4A0-405A-936A-9C7A98684B9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353B9C8D-2C8E-459E-B9CB-062EAB70FA11}"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FC49867-9567-46C9-A9B2-BE9B56D5EEC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61CB8E5-6EE5-4955-B8BE-7246F7693C4B}"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96363D-01C5-4D20-9F95-3B4082336758}"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0D602B-85F9-4A1C-B738-1FB291737CED}"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B0FF3C-7CC7-4792-8B57-4C31323AC6F8}"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06D2E0-F2B3-415F-9544-61E58FE302CE}"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198247-051E-4116-867F-67C6B8CABC83}"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2A54F22-2005-42C2-8EAF-EFE90F669ABD}"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F2675A-D339-429B-9F6C-CB769BBF08F4}"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0CD2FE-5B7C-4CCE-8997-886C9AAF4A2B}"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E4E605E-711A-4FCF-A278-9C2109975650}"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AF9DF-C6DD-45DC-9BC4-774EB95C7BD2}"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F98D1E-D82E-498C-B11F-021E6E938F5C}"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8DA64C05-B685-4450-AA2E-7B5B639D97FF}"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829541C-8D85-4A9D-8A47-927DFA7C1B0F}"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29FB701-351D-438E-8E71-FBECF4A33D6D}"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1B9F615-B2DE-495C-B112-F03AF2574F29}"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89CF11D-19E4-422D-A8DC-152A8850AB1F}"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352E5F2-3136-4291-9D52-E7609D6F2718}"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3AF16E-424B-4E66-9228-06899769814D}"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F52ABB-6F84-4B8B-BCEF-91F091927016}"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D6E98F3-C3AA-4F91-808A-74AEA4798289}"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A10AAD-A805-41C4-AC3E-550FC99B89AB}"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1A504-0B8A-498E-A6D6-1964EAFF308F}"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4BD3ED-5A63-436F-AEAA-C95D73DB0789}"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968D20C-6D0E-436A-9352-961C1BB66B8C}"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124E5F-625B-43E0-B3BA-65022892DBED}"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3B56FA-25A7-43E4-9897-AA1E7E295F9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2B92FCA-9111-4BAA-B14E-E56FCCA35D6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C4A1DB26-688D-4F03-96E4-01F6BB3D1731}"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1464880-5010-4DDA-982C-5CBF5ECAB617}"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5EEAEB1-BBC8-4F99-B79A-F8C5E8EDFDF5}"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1E2F5F-DCB1-45BB-BBDC-FBF1E0F41A6E}"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C9209E-01EC-48B3-AFC4-4E022D2D06B9}"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58692DA-2BE8-4378-8F14-B671FD165BC7}"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D96104-E0D0-42BB-A7A5-B2526A33FDCF}"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C1759E-E0E2-45FA-A07F-724387DD68DB}"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98A6AF-F8EB-4EFE-9C5F-6BC55D488375}"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87E1B36-2AB1-4C39-A34D-1D6B15A1EDFC}"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515E4-A8F1-4921-8538-FD80E7AD8E0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AAE657-1276-45C7-9FE4-0968D913F498}"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3854F7F-EEF8-4B5B-B847-15E1F6A20CA2}"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11AC3C-6D51-4F8E-B881-BC5CDA4F1379}"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B19DF2D-9A06-4610-9BD9-B7A7F0DC7FEC}"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0CB8361-EC14-40FF-9205-F58D587C2A98}"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46AC1E0-AE1D-454A-9DD1-C07F85BDF72E}"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D882746-44CD-4DAB-B3D3-2F13C3EA7299}"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E04739C8-1CA7-4040-9A34-B533A3537CC5}"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ED302E-DBC5-4310-AD96-F2D799DF37CD}"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FCB0E0-B6DA-416B-B16C-D266D6412BA1}"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920721E-4B90-461C-A0EB-563F6DA86FC9}"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E25801B-D7DC-4D6C-AE83-C5B9D10180D2}"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B5D30-8237-402A-9864-E7B6B51C1C5F}"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1B88C17-4493-4B76-9586-5FCC7941190F}"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23F3C9-78DB-48DD-B3B6-22657EDB6943}"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9EED144-9EFF-460F-AD9E-20569E5E7A7B}"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929602-BB5E-487C-ABAA-626E448A4FFE}"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54D51F-03D8-4637-B171-9398CD88EA07}"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1D545AB-70FB-42F1-A0DC-67E5707A4E72}"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24BE3C-3B09-4996-B199-6A3348AC9BC7}"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E218B6-B7EE-42EA-A6A1-732D56330BFE}"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20AC24F-51A3-4660-90F8-E961E3077126}"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71AF6AA-5375-4F49-B5FC-7450F65F0313}"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E7D5CD1-F831-406B-BE5D-FF9BC44E9D6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C53D54-2369-42DE-BB58-F7C52372EABD}"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68C3A25-EBA5-4E11-8C3B-497DDF06D930}"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BBBBA6-A578-4363-9FE7-841A81022B26}"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541D42F-BF6F-42AF-B50E-AB58EBDF6A9E}"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01EE75-86B6-4357-8B9C-3D8CB150AC1F}"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1BA409-2064-44D4-9642-D60F1B46AFC0}"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78DDF8E-AFD8-46B7-82A2-A8F9002B3481}"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77D814-CC41-426C-B13F-086860EB02F0}"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D6E1B-77D4-415E-A0F7-6E3DF5BA2B8B}"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846EB3-27F8-4A99-BE42-9B0BC38EBA1B}"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5AD9CA-6DC5-4F52-BDB6-D138CC596E18}"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369FCCB-4F9A-4AE0-83C7-3A8FAC6449FC}"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507006E-B4C9-4A62-8361-118A7C028D8D}"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E642F2-094F-4465-87CE-B3712EA85FA8}"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4CDF3D-741F-4703-A99C-6E2907D7B637}"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174E94-F8F0-40A5-91EB-0713B5AA61F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31FA97-3212-4375-AF90-FBF7C7F8147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04A5968-C53D-42C5-9DAE-D1084FE9AB1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59EC1999-6116-48FE-BC7B-C9EA0208E882}"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5FF33F-392B-41AF-8668-8EAC0CE64F2F}"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322C97-7D6B-400A-BCE8-B5E944850770}"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1479A7-B24C-43C4-A793-8BE8F5C031D1}"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1CAF3DF-DF3E-4D67-9D5D-F8CBEBC58D47}"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273652-1CA9-45C8-9FDB-94D912938C47}"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59EF70-E383-47EB-A5B6-F5E23AB6E650}"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AE73D1-C252-4D3C-91D0-9E16EF4C7646}"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6F52ACC-05ED-418D-9F25-6F5D2E5172AC}"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0BB34C-FD73-4239-A8FF-B21DD9A4B49B}"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3535F3A-1DBA-48A4-AA24-3DA9DA4CC935}"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8BC54A3-F33A-40D1-B364-240F8A44D351}"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5296AB1-CDB6-4F6B-AB2C-E531E926969D}"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2F8FC3-2174-4064-A196-B5D31F3F504E}"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00A1C8-A3A8-4E18-A38A-1AE01D962C02}"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8FB3301-F9FA-45F8-ABFB-DE6165B4177F}"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064A14-F786-415D-A832-0C1ED68937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3934ACB-BFE0-46C0-A257-1C6EB44C2878}"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95B75D-CD8C-4BD8-8646-FF56C720B964}"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390356-1DD9-4809-A285-0941FC6C7436}"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7E9B754-157B-416F-897A-CD110181C026}"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BE5D28-CD90-45F9-948B-3DE6BBB6F430}"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9723C-4C5F-4830-8DA0-8102D8889F44}"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EA373A-F67F-4640-B6AD-08F37FB044FE}"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3DA5042-1FE5-4648-859C-BA8CCBA0D221}"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8CF57F-DE72-4AFF-A9BF-72602576AF15}"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F55CCFC-A583-449F-BF64-9B709F0CCA03}"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8A7AC8-68BA-4E08-B0FB-8FE6A985F2F5}"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CE9037-F795-4DC0-9878-CFA685D2794B}"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82F58A1-EE5C-466B-B8AD-6FCFBB52C46A}"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07BBEF-D6D8-43C1-A296-78D078758C44}"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EB19575-C04A-45D8-9C52-B3E686FF58F0}"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FB23213-94F4-40A0-9E5C-CE120F129F40}"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D08A96E-F084-4F46-8CD4-713ED3BC36DD}"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373BA26-4A4E-4555-AB16-E00DB3203931}"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69273C4-8893-4D82-9E7E-79FDCBAB7D5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50740E-CDC9-454C-BB9F-3938FA9B93BA}"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A5D9477-4DCC-47D4-B9C1-7703FBE59AC6}"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75B9F29-BA1D-4D48-B09B-78B28B24FDC7}"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C331967-DF40-4539-A4BD-E3C8FC52D9EF}"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A69A7EF-A8F2-4ACC-A3BA-B22E319AAB40}"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7E14681A-3AE0-4F17-9893-E77D7FD28DB2}"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6F8A9B-2379-4EFE-8FD2-1D0A87BD9AF5}"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2CEDC87-D675-4105-9B5C-2E5C6A580D72}"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3E379A2-0432-4FFB-A62B-723D2C6740F2}"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8A197F-51AA-4BF0-BE26-2CE741E8ACE7}"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7BDBC4-EDDB-443F-9D04-216859A8A468}"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35B5E1-CF0C-4A59-9C1B-082B06DBC538}"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C036F3-EC52-4722-A524-0AB2FB2EE469}"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33D2B3-6533-4991-BA93-B328F4F224DB}"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08FBE8C6-7A99-4CC9-9D26-4FB75F5CB10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2CAD72D-512C-4A0F-94A5-A1F242763FF6}"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333888-4C73-4EB4-B400-5A18F2C62CE4}"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C376AC-69F2-429A-8D10-5966CD4DACAE}"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F553B5-EFF1-42B1-8C24-D8BA617C94AC}"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EE4849-537C-4BF7-BDC5-07A22871FD55}"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D274548-2D18-455A-B922-308FAA90C01E}"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AC6CFD7-1FD0-4FA8-890F-2F8EC6C0FA89}"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E39B08-0280-467F-B0A4-1490F7A20191}"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AEFDB9-DE4A-4A3B-A500-B21AFFEF4F03}"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4C2413F-1ECE-42ED-8F61-A940617D5737}"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CEDEC57-AFD7-4877-9F9D-80105FB30B4A}"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01F3091-D40B-4602-923F-695E38070970}"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269990B-68B9-413C-B8CA-ED147BE2F91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60D53D-6ECB-41B2-A3A5-F15EA4185D3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CAFF7B6-DCF4-4F5E-92DA-2433B91DC957}"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2F333BC-7FD1-4FEC-A7AF-A14DBF8A6331}"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D08F4B8-DA4C-4EF2-A853-3AAF811452D5}"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946F609-7B5B-414D-A1D8-D903B435CECA}"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ECCA6D-892B-4B67-BB4D-3C76F0222A8E}"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25890F9-42E4-43D9-9507-4B1F9F7E6B85}"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ADD851-002B-4F3A-A569-4A3C46D03CEF}"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2F84DD-99A9-4A70-BDCA-44E6C82CB759}"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FFA3B8-DB9F-42A4-B863-1AF5D42B806B}"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BCE171-830B-4C63-94F7-EB610D3FD906}"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ED61C5A-89F5-49E3-866F-2502966D6D10}"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BC0C12E-C3AD-43F6-AB52-0AADBBC87F6F}"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198A47-6D85-481A-BC39-524D5A9C7317}"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CCC6B0-A331-43DA-8BAF-7A6DF728499E}"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